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2335-1FD1-4D99-A994-BCA30D6E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CA83-FDF2-4D99-B9E6-C160B6F5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28D1-6C79-4754-8B08-4F5D76235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CD37-03CE-4F7D-8DDB-B8F33600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1524-7B17-4E9C-BCFF-73569145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9A78-F85A-4DC9-9429-706A476E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710D-F11C-4B4C-8762-F4C74D33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6BA0-77D9-40A3-AFC4-DF3E153F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729E-6E72-4A96-AA9F-69A2A094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EC6F-C904-4514-B412-AE1A235E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F9BD-A4FD-487B-8C21-619B9055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49D9-DF02-4C92-A562-FFD4BE6A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190D-A10A-416C-9895-27B9CA97E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557360"/>
            <a:ext cx="8497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To revise formation and use of the imperfect te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use logic to work out key terms related to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To play hang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) To listen to a description of botell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) To read about recent advances with botell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) To help each other give opinions on alcohol use and botell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785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71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 bebida alcoh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ólic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an alcoholic drink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 de cope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 go on a pub craw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orracha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 get drunk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resa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he hangov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 alc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óhol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an alcoholi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cohol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met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he breathalyser tes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intoxicaci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ón alcohól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acohol poison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r borra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 be drunk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nd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 toas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o los ef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 the influenc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abuso del alcoh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cessive drinki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embriague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runkenes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r como una cuba (to be blind drunk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b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b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alcoholis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lcoholism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mit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 be sick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 borra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drunk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toxicated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 abstem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teetota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ber como una espo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 drink like a fis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00" y="189000"/>
            <a:ext cx="3166920" cy="620964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b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a bebida alcohó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r de cop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borrach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 resa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alcóho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 intoxicación alcohó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tar borr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i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jo los efe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tar como una cu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omi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b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borr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ber como una espo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40360" y="333360"/>
            <a:ext cx="2736720" cy="606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o on a pub craw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dr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hang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cohol pois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 alcoholic d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to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 alcoho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be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be drunk To be blind dr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drink like a 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 the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dr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oxi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620640"/>
            <a:ext cx="2016360" cy="284472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is adivinar qué significan las palabras español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O ESCRIBÍ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26920" y="404640"/>
            <a:ext cx="7632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usca los sinóni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dolesc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divid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eleb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ue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t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arm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li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g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un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umnos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n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9640" y="549360"/>
            <a:ext cx="8209080" cy="3660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 ¿Qué es el botell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. ¿Por qué puede ser peligro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. ¿Qué se puede hacer para combatir el uso de alcohol entre los jóven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. ¿Crees que se debería cambiar las leyes acerca de la publicidad del alcohol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3:03:18Z</dcterms:created>
  <dc:creator>Owner1</dc:creator>
  <dc:description/>
  <dc:language>en-US</dc:language>
  <cp:lastModifiedBy>Owner1</cp:lastModifiedBy>
  <dcterms:modified xsi:type="dcterms:W3CDTF">2008-11-06T18:07:25Z</dcterms:modified>
  <cp:revision>4</cp:revision>
  <dc:subject/>
  <dc:title>Slide 1</dc:title>
</cp:coreProperties>
</file>